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gif" ContentType="image/gif"/>
  <Override PartName="/ppt/media/image3.gif" ContentType="image/gif"/>
  <Override PartName="/ppt/media/image7.png" ContentType="image/png"/>
  <Override PartName="/ppt/media/image4.gif" ContentType="image/gif"/>
  <Override PartName="/ppt/media/image6.gif" ContentType="image/gif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3B39-4427-41BF-937F-9C3F4AA3A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7A00-B081-4E2E-A1C9-21C8EE289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4598-F64A-4806-8D36-9E6FB66DA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6DD6-BBC5-43E2-982F-83278336B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37D8-1AC6-4F09-BBBC-F1BF7A1B7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41DA-7AEB-4993-9AE5-76949D1D9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AF88-9775-4136-A51C-C4FBBF008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F24F-EDA7-4358-951E-FDBE37CDE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0F92-3A64-49B1-84D3-567DD9495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7C2F-E44E-40A6-A8C5-65823F19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8FB6-CB8C-49EB-B62D-90D72A6A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AC56-F057-4CCF-945B-A128CF8B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4D797-F6B7-4F1D-8514-3FC73F9FB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23840"/>
            <a:ext cx="8915400" cy="66834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943600" y="3429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762120" y="2286000"/>
            <a:ext cx="2419200" cy="2857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057400" y="762120"/>
            <a:ext cx="4419720" cy="183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erry Christm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5" name=""/>
          <p:cNvSpPr/>
          <p:nvPr/>
        </p:nvSpPr>
        <p:spPr>
          <a:xfrm flipV="1" rot="9837000">
            <a:off x="4572000" y="54097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rom Mrs. Moo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400800" y="2057400"/>
            <a:ext cx="220968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09480" y="2971800"/>
            <a:ext cx="2076480" cy="2709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rot="20755800">
            <a:off x="838080" y="99036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9900"/>
                </a:solidFill>
                <a:latin typeface="Arial"/>
              </a:rPr>
              <a:t>Christmas Bless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477120" y="1066680"/>
            <a:ext cx="1199880" cy="1714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657600" y="1828800"/>
            <a:ext cx="1387440" cy="2286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3352680" y="5562720"/>
            <a:ext cx="5257800" cy="828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724280" y="56386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9900"/>
                </a:solidFill>
                <a:latin typeface="Arial"/>
              </a:rPr>
              <a:t>Mrs. Moo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22:50:18Z</dcterms:created>
  <dc:creator>Patrick J. Mooney</dc:creator>
  <dc:description/>
  <dc:language>en-US</dc:language>
  <cp:lastModifiedBy>Patrick J. Mooney</cp:lastModifiedBy>
  <dcterms:modified xsi:type="dcterms:W3CDTF">2009-12-07T23:05:16Z</dcterms:modified>
  <cp:revision>2</cp:revision>
  <dc:subject/>
  <dc:title>Slide 1</dc:title>
</cp:coreProperties>
</file>